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18D-0F43-40A3-85A6-D4F88691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83F-5B9A-4F93-91AF-BC055542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DEBCE-942F-4C90-80BE-51C63A7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4BF33-9CA8-41C9-91B1-D726560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0371-730D-47CF-B0FA-A8C3671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8C92B-3729-45D9-8CB5-2FED087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52618-A37E-416F-A337-E6357D6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096B-FE11-4132-B3CA-767C851C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DA4AA-4FAF-4646-A6A2-27B6694A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E5CC8-78D9-4303-83F1-27B74E76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95794-BEF4-4BAF-B0AA-4F543DE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E0C4-C17C-445B-BFE5-358B226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100-9C8F-4350-9C06-DD826102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B0F6-B778-427A-833E-D20E59AB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BD86D-6049-496A-9437-CF50F4C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5C3B3-303B-4692-A297-D6F381A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88974-F41A-45D8-B90C-9EF5392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F02AE-C54A-4021-AEB7-6C036F4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33BA8-780B-444F-896C-FD0BE3FA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4E7B0-4697-42B6-BE30-7AF1C34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DBAB-8C09-47DF-9C89-4EB322A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17947-BC9D-416B-8A7F-5C3BA6A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FA7A2-50F2-41FC-A147-26A2F301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6A0-C381-43F2-BDE9-0069EAA7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9C3E4-23E3-483A-87FC-E13F4B6D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090BC-3EE4-488C-B16B-88CB97B7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0FF6C-246C-4EDF-B0AA-48D05084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D797-2A99-4549-821B-B900C8D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C9E12-27E5-47D1-A648-7695E1E4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EB836-9B26-46BA-BD34-9F58091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29E3F-B7E9-435A-AEA6-35E8222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D8D1C-98DA-4624-9D1B-26C18F2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956E6-0DA7-4A96-AE7E-91BBE22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30F9F-2D31-474F-811C-7256AD8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C07E-B05C-4D98-A2C1-15CA7B7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706D-9E87-4EA0-9849-33276E2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020CD-3A22-4918-AD4A-98786AC1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1DE3E-8C68-42F5-8763-654E1D6C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A6DFB-C586-42BD-9DFC-C64CA82A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FC4E4-75E8-4F29-A577-BE050A7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36E05-DAE1-4317-A4A8-4B21B8F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3DB1C-C570-427C-97F5-1DA18CF5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867F4-B712-45F2-8334-7E1AC4FC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B6929-347F-4D1C-965D-F40B787F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1CB82-28F7-4422-AC44-FDFCD0C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001-BDC5-4DB9-AF9E-78B24A91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F860D-3BBF-482C-86D3-10FDEF6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72387-8615-47FF-8534-D514793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3FA6F-F3A1-48A7-856F-AAAC20C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90048-A8F4-40AC-AA89-0AE1774E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CBD8C-5273-434C-BD6B-6DA5ABF2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32A6E-5D1A-40DD-8E05-68AAB8D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86FB4-2169-4735-8ED8-AF232718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2D6F3-119A-4BE7-8A8C-DB788890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AF6FB-0DB4-428E-A49C-31F769DD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F4B1-E9B7-4764-ADA7-AF5988E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521-956E-422F-83C4-1D12C53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6692B-9625-453E-9EB7-C6A9D80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33A04-2752-40AD-A234-1D310798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168E8-34A3-4AD3-BBBA-A1A4FF08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E4A8E-EE95-434E-BD30-484030D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7E317-F713-443E-A813-443A6DCB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FA429-C5B4-4A1F-AB99-C8B4DB30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03AE9-433B-40FB-8045-2F2BB864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69233-EA34-428B-804E-996218C6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415A4-8F2B-465D-9836-6878B60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07C32-9DDB-4DA1-B739-F5F53ACA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7EF-343E-4321-9481-BCB94C0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1C68E-9EE7-47BD-B835-187FCAAE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C14C8-2D26-48BD-9C09-65B08B3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4B348-AFC0-4AFD-B971-C56205F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2EE48-7A5F-41A4-A85C-C625735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3B10D-6471-4682-8821-C07EF5D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0E36B-FF5D-4493-955F-5BB334A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E713A-4320-4E8B-B3B2-51C79AF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10994-A1C7-4494-BE6E-9773E2F8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0E1DB-8EFF-4160-9F8B-169253BA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A1017-946F-4348-A641-3B1F1344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BBC-5589-4C61-9A6C-99B2909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37743-2C0B-4F0B-80F7-756A5BC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2C355-7811-461F-97D0-1B92BE6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6E971-A9B3-421F-B67A-E2D487A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FAD5A-5254-417E-99CA-3A90F73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617FF-62BF-4397-9BED-EED08B4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8147D-B032-4F5A-8B3C-24DE3F0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174F2-9C1B-4AC8-B32E-C9555F9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D61CA-28D5-4994-A378-CDF3B4C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F3227-F7F6-4F60-B365-4258C16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3ECF2-DF9E-46E6-A6CE-A43EC91F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CEF0-29DD-4683-AEB5-5CA7E81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55F58-1B5B-4D1B-B805-F2A1B351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37D6B-113F-4610-A8CD-B25E53A4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1FC20-A7E8-4000-9B4C-C62C8F9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FA7FB-2E23-4D4D-B642-77560AC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98F16-19F3-4DA6-8662-DAABF03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F0E06-9C2C-4144-A0C0-0ABF3C5C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8421D-B4F4-48AD-ACCD-E1FEB2AE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7B146-E756-410A-A8FB-4BD5389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CF3DD-3EF6-4CC7-B375-2DF173C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DBBF8-E3D3-42FF-B9E5-F60FEDA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CC3-A031-456E-B21F-4C21FC1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ACC27-C414-476F-91C2-FB2AB15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46C68-5CE5-4765-853A-B2CA878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432BC-78F3-4B73-AB54-E0945788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3C57C-A13E-4BA0-AC14-349D4E83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4E89D-D7C3-4471-808C-51084BA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51BA4-D58A-4C4D-A23F-2E7753A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82A1F-CF73-4061-BE52-4FB965B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EF314-639F-4E9A-9EB8-43FB0AB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29C78-8507-41B3-82DB-B40DCAAF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BABF1-C263-4820-A26C-C6ADDB2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173-46A9-4B2F-8ACD-B0521C3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BEA-3824-4D29-81FA-17F39B1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12B91-9DB1-4308-A0F0-C49F57D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E6B29-1EE9-4527-A334-67452E9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55771-F325-47F2-ADAC-B39E01A1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177AB-8333-4D4A-8ABA-6578BA86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D3D36-F7D7-4916-8F49-7A1FC1F7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17D58-7F29-469C-95BF-F7D03C70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AA803-C56B-42BD-8D3B-4BE7186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ACCBE-2962-488B-A696-34832C2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2D1D9-18E4-404C-8218-9F02CEDA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7B151-E14A-4319-8469-67C0570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2A3-8015-427C-BD44-F4F9CD5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E14D6-0689-4EB1-999D-291CC3E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2C2F1-443A-452F-8B33-F8B393C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9629C-2FB0-4A4B-824F-D8F4E3DE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DB689-98A8-4BD4-8D93-8FECDBC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0CC63-8630-4D20-BCE9-96FA2AA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698A8-927D-4129-9BE4-F89967A6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D8B4B-A25C-48AB-916A-E84F87B4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41680-E017-42D9-B226-6FC0AE72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838AF-CE2C-455B-BDAC-CDC0755F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1F21C-7F7E-4268-87D4-C62482D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5498-4B06-48B1-8CA9-23A9D1E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C58F4-90D5-4C2A-B5B1-5A0178E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CABD6-A819-43C6-A1F2-D139A1D5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6C83A-0F79-4476-9842-1142DA5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8C6EB-AB49-4857-83BA-9BB6D22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E6D75-0B30-42F3-981C-8A69511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2379B-5186-4327-A443-3744E70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5C16A-878C-4CAA-9F0F-EDCE9739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4C398-5962-4895-8051-B367F381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B9ACA-73FB-4BE3-95C9-01246FBE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C185E-F673-4525-A4A7-B2AA4F5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05C4-409C-4F37-9986-D1A843B2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E0BE4-4F87-4DC8-9ABF-ECA27BD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7F223-A047-4011-B5EA-8E0A43F9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27690-71A4-42C2-ADE1-C0051D9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CDBF0-5CBE-47B9-B14B-18B83982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E0F0D-7F6D-49D0-B26E-020A8E41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BE6F0-CFC4-4B6E-816D-E4DC631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E0F4D-0540-4DE2-B61B-61D9857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A77B3-AB5B-4EED-8712-C00BC14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001DD-58B6-48F5-83A7-F1C8957E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C3545-3E69-42F3-80BB-3FFAAF73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E60-F339-4004-8E53-2D1C4E8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C8F6D-6C5A-4C26-938B-7E129F47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E4624-13B1-4188-BC22-711E9BE9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534D9A-FA68-4125-AA82-86DAA4A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0C4FD-AA63-4F5C-AA03-B8DB8A1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26FF8F-53C5-4899-9494-4052277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0BE313-3B3A-4083-A7FC-43A6C656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FE304-1B3A-4A85-8428-8E65797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4D6F4-1789-4D0A-A6CA-FF6FCBE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144EC-FC86-4BF6-BE10-FB66767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B51EC-90EF-4DD8-B9B4-07F1A84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00D3-C46F-47FA-AC04-17A95D94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746B3-2D85-461D-B3EE-BD2FC61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D3BA5-4908-417C-BB70-85D0533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7D484-84E7-4B5F-B484-A4E04865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ADC7-0882-4FCA-90D8-6D369CA5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005A-C948-45F9-A65E-923AC4C0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7594-F516-4423-BFBE-0C3B8854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8A71-11FD-4E23-AD44-5221DEE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79E-A6E2-4447-A434-057A1D0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21AF-1FAF-47CD-A83D-8B51FC2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E683-FAA8-4B7C-9ED3-27EDF090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D8C5-0376-4D23-BCE4-8CB0632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AE9C-1AF7-40E7-A65D-52F891F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5C57-22EF-4BB9-AC83-B20F11E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04F8-2C85-4AD5-B315-38185E2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36DD-C781-4FD6-8D63-6125BE3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A04D-FB27-46D1-9A7B-129E8912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883D-96B6-49EF-B653-F3D8405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A668-E26E-49E2-BB91-1AD7A01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AB3-F6FB-4629-922E-16EE824F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34D8-0B49-491F-857E-12E28EA8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5A70-884E-44EE-9B47-6B8692B2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1928-62BF-4C47-A649-EE8B365A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C0FC-9E64-43DA-B0AA-410C5C3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8C20-BBBE-4C30-981F-5F864F77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0441-2971-489E-AA1A-472B972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5734-0D55-4CBE-9FDB-F6570CA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E091-5FE2-4C7C-BED2-1D9162B1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088F-935B-4BCF-9406-C0C7202B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5C6D9-CAF2-4D5D-955D-34A6372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CF9-20A5-4792-AE36-1A9A82AB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3136-7942-4521-A925-3EEDCBD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8AA1-6965-47EF-A3FD-24E95006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4BFF-A17D-49B8-AFC6-E44C629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A42C-1D21-485F-8446-C1ED6EF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A727-0DB3-4ADA-AC49-BC45FA16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940F0-CF94-4816-A4D1-92D313F7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5DAA-9CB4-4C4C-86DB-9A90A5BD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72B9-CA94-4F7E-B9FB-A1BC134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74E0-76C9-4DA9-9B49-49C5716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1B54-10C7-4D35-BBD5-A1023824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C72-35FB-4DF3-88C6-6E2D4BA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A287-7C96-4009-AB83-6DF5B50A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79D45-5E22-4BE4-9EDD-AEDFECBD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159CE-19CA-4023-AD74-0059FD1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BEA4-0A6E-43FE-8828-6BADB72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99F5-5690-4586-A579-667DAAE9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D5A9B-43B5-498D-9028-D3E5E34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C638D-940A-4635-86B4-3E35ECE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15E4-D11F-41FF-8B18-E3DC48C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8628-A4F8-494C-A78A-CCC0D91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A806F-1DEE-4F2B-A037-640CC3DA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5DF-7085-4FCD-9524-75EBA76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66D2-45EC-48D2-B58B-EE52F0A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AE74-4577-4F19-8622-B0BAFA21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CB32-F32A-4F6B-91D7-0511A614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83784-C593-4899-AD60-88839397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CD1E4-D9DC-46D9-9168-CB55C3B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A9B4-D5C9-4983-8E5D-1F575F30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BF0C-0DF6-49F5-A8A1-08C39F9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E857-7E51-4906-99F9-EA1A1FA9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6A42-0B94-48BD-AC26-75794CC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A9DF-D65E-4362-B3D0-AAA0018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FBF-AC51-4FC3-A20F-FB7B498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1A578-AC23-4B8C-8327-9157419A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F47C-B310-43DF-85B3-F06062A0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3C805-5765-49C3-8857-FF30C40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37E1-8AD3-4CED-800E-6096B3D5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25CD3-5A28-4EAE-B696-7BDC638B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2243-7F58-45E4-A3C6-A914F8EB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271C0-9DA9-4A58-923E-D5AFE1B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1617-8291-4E46-BE19-BEB2D87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D9E7-1ADE-4C3E-8984-8E85650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DADC-45E7-4276-AA8F-871964D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ACA-3DAB-475F-A819-52A3462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10305-4D7A-4F02-B881-D5B0D07E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AB66C-FB60-4484-BD7D-D5639C4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2023-E6C7-4352-9EAC-B8E8EE0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5435-677E-4670-98D5-93B5F72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75006-8F0C-485E-885B-3801E6B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7492-DE85-4D3E-88EA-1CC5D188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A781-1659-41EA-A1CB-53E02107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CC75D-9408-4536-ABA8-3DB3ED61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3EEB-A2BE-4C9D-BF1C-EC6C32C8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7A43F-E243-4F05-9FD7-3A20A04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8992-5176-4A67-AF31-0B16A185A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63A-7404-4D5A-AD61-F993AA276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F39-6BE0-4976-9190-4317BCEF4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62E-CF4A-4C2E-A2F3-8A4C08C48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E0A1-C576-426E-9197-07305E6245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0F92-7DCD-422C-B7C6-EC2F6F18A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C87-5518-4A53-A9C7-4D42B1E19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0389-D3BC-4483-AED4-45E5DDAD7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096-1482-4B97-B1D7-B39D4C1F3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6FEF-9CBF-4B8B-89CC-528A2C3CF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0212-64C2-4C18-9EC1-2565D5651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504-86ED-445E-9584-82146DE17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A94-113C-404E-B46B-AD6893C23F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6A0-324D-4E4D-9A35-DED8659CB1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CE3-E25F-4B5B-8CA0-B53E1D764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30F-FD47-4388-AEF7-4B03F935F5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FA5C-1D78-4AAD-A362-CFE8B6E66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DC9-70BC-461F-B104-E18DA8BDC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B445-43B6-4A84-85A3-1CC1358271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025-EB21-498F-9AA2-F783FC1E0D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55D-8ABE-4511-8DE9-7BB46D9D6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681-EC17-4E45-AA42-CE8D4983B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4BD-54A8-414B-BB49-A3CE49BD8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842-137B-4301-A006-4FEBEEAD89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B03-CA1F-483E-93F9-0DBC2DDFA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A8B-25D1-4521-931F-16384B477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951-1B16-414C-B588-97D815B29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B82-3ACE-4E73-A986-7605D312F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E41D-CDE3-4687-8590-EA020E9FF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FFB-5A52-4E71-AF57-9691FC792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D4B0-F7CD-48C7-B302-78AEA72CB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798-F49D-4060-8DB5-89B032065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64C5-4CF4-4050-9031-FC867B1D9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232-0B3F-4009-898C-ED5D64495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59B3-B46F-4AAA-BC02-32F93B793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6E2-2D24-430E-8890-436A766FC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88C-BAAD-4105-8168-71975D418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BF10-FE12-409E-8367-A7DF94221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511-963B-4396-B30D-7E0AE4271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7C04-4F8E-4AD0-9FBB-DD5FC7479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404640" y="3086280"/>
            <a:ext cx="8334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69633" descr=""/>
          <p:cNvPicPr/>
          <p:nvPr/>
        </p:nvPicPr>
        <p:blipFill>
          <a:blip r:embed="rId1"/>
          <a:stretch/>
        </p:blipFill>
        <p:spPr>
          <a:xfrm>
            <a:off x="223920" y="985680"/>
            <a:ext cx="8696160" cy="4886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028000" y="256536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68609" descr=""/>
          <p:cNvPicPr/>
          <p:nvPr/>
        </p:nvPicPr>
        <p:blipFill>
          <a:blip r:embed="rId1"/>
          <a:stretch/>
        </p:blipFill>
        <p:spPr>
          <a:xfrm>
            <a:off x="228600" y="1314360"/>
            <a:ext cx="8686800" cy="422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547640" y="2938320"/>
            <a:ext cx="172908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7585" descr=""/>
          <p:cNvPicPr/>
          <p:nvPr/>
        </p:nvPicPr>
        <p:blipFill>
          <a:blip r:embed="rId1"/>
          <a:stretch/>
        </p:blipFill>
        <p:spPr>
          <a:xfrm>
            <a:off x="176040" y="1790640"/>
            <a:ext cx="8791920" cy="3276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2484360" y="3903840"/>
            <a:ext cx="1150920" cy="512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130400" y="4497480"/>
            <a:ext cx="10792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6561" descr=""/>
          <p:cNvPicPr/>
          <p:nvPr/>
        </p:nvPicPr>
        <p:blipFill>
          <a:blip r:embed="rId1"/>
          <a:stretch/>
        </p:blipFill>
        <p:spPr>
          <a:xfrm>
            <a:off x="190440" y="793800"/>
            <a:ext cx="8763120" cy="5514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116000" y="3486240"/>
            <a:ext cx="576360" cy="512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476360" y="4581360"/>
            <a:ext cx="934920" cy="5130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914400" y="5705640"/>
            <a:ext cx="9349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5537" descr=""/>
          <p:cNvPicPr/>
          <p:nvPr/>
        </p:nvPicPr>
        <p:blipFill>
          <a:blip r:embed="rId1"/>
          <a:stretch/>
        </p:blipFill>
        <p:spPr>
          <a:xfrm>
            <a:off x="266760" y="1266840"/>
            <a:ext cx="8610480" cy="4324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2556000" y="3343320"/>
            <a:ext cx="1152360" cy="512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835280" y="3949560"/>
            <a:ext cx="1224000" cy="481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468360" y="5027760"/>
            <a:ext cx="12240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4513" descr=""/>
          <p:cNvPicPr/>
          <p:nvPr/>
        </p:nvPicPr>
        <p:blipFill>
          <a:blip r:embed="rId1"/>
          <a:stretch/>
        </p:blipFill>
        <p:spPr>
          <a:xfrm>
            <a:off x="1895400" y="1728720"/>
            <a:ext cx="5353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3490" descr=""/>
          <p:cNvPicPr/>
          <p:nvPr/>
        </p:nvPicPr>
        <p:blipFill>
          <a:blip r:embed="rId1"/>
          <a:stretch/>
        </p:blipFill>
        <p:spPr>
          <a:xfrm>
            <a:off x="200160" y="766800"/>
            <a:ext cx="8743680" cy="532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7956720" y="278136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2465" descr=""/>
          <p:cNvPicPr/>
          <p:nvPr/>
        </p:nvPicPr>
        <p:blipFill>
          <a:blip r:embed="rId1"/>
          <a:stretch/>
        </p:blipFill>
        <p:spPr>
          <a:xfrm>
            <a:off x="414360" y="1747800"/>
            <a:ext cx="8315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60430"/>
          <p:cNvGrpSpPr/>
          <p:nvPr/>
        </p:nvGrpSpPr>
        <p:grpSpPr>
          <a:xfrm>
            <a:off x="228600" y="1413000"/>
            <a:ext cx="8721720" cy="3825720"/>
            <a:chOff x="228600" y="1413000"/>
            <a:chExt cx="8721720" cy="3825720"/>
          </a:xfrm>
        </p:grpSpPr>
        <p:pic>
          <p:nvPicPr>
            <p:cNvPr id="1024" name="图片 60428" descr=""/>
            <p:cNvPicPr/>
            <p:nvPr/>
          </p:nvPicPr>
          <p:blipFill>
            <a:blip r:embed="rId1"/>
            <a:stretch/>
          </p:blipFill>
          <p:spPr>
            <a:xfrm>
              <a:off x="228600" y="1619280"/>
              <a:ext cx="8686800" cy="36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1" descr=""/>
            <p:cNvPicPr/>
            <p:nvPr/>
          </p:nvPicPr>
          <p:blipFill>
            <a:blip r:embed="rId2"/>
            <a:stretch/>
          </p:blipFill>
          <p:spPr>
            <a:xfrm>
              <a:off x="6141960" y="1413000"/>
              <a:ext cx="280836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3203640" y="272736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3924360" y="3130560"/>
            <a:ext cx="1368360" cy="287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5580000" y="3141720"/>
            <a:ext cx="136836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7432560" y="3141720"/>
            <a:ext cx="110016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3492360" y="3836880"/>
            <a:ext cx="1008360" cy="287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2627280" y="420228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6804000" y="457200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8244000" y="4572000"/>
            <a:ext cx="576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9410" descr=""/>
          <p:cNvPicPr/>
          <p:nvPr/>
        </p:nvPicPr>
        <p:blipFill>
          <a:blip r:embed="rId1"/>
          <a:stretch/>
        </p:blipFill>
        <p:spPr>
          <a:xfrm>
            <a:off x="195120" y="1057320"/>
            <a:ext cx="8753760" cy="4743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317080" y="2214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317080" y="47530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8373" descr=""/>
          <p:cNvPicPr/>
          <p:nvPr/>
        </p:nvPicPr>
        <p:blipFill>
          <a:blip r:embed="rId1"/>
          <a:stretch/>
        </p:blipFill>
        <p:spPr>
          <a:xfrm>
            <a:off x="209520" y="1062000"/>
            <a:ext cx="8724960" cy="4734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331120" y="1052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4643280" y="4014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204840" y="1724040"/>
            <a:ext cx="8734320" cy="3409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8317080" y="1690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5580000" y="2050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171360" y="1181160"/>
            <a:ext cx="8801280" cy="4495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899480" y="291636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5300" descr=""/>
          <p:cNvPicPr/>
          <p:nvPr/>
        </p:nvPicPr>
        <p:blipFill>
          <a:blip r:embed="rId1"/>
          <a:stretch/>
        </p:blipFill>
        <p:spPr>
          <a:xfrm>
            <a:off x="223920" y="1362240"/>
            <a:ext cx="8696160" cy="4133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7956720" y="2363760"/>
            <a:ext cx="576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857160" y="2014560"/>
            <a:ext cx="7429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2231" descr=""/>
          <p:cNvPicPr/>
          <p:nvPr/>
        </p:nvPicPr>
        <p:blipFill>
          <a:blip r:embed="rId1"/>
          <a:stretch/>
        </p:blipFill>
        <p:spPr>
          <a:xfrm>
            <a:off x="195120" y="990720"/>
            <a:ext cx="8753760" cy="4876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927920" y="1455840"/>
            <a:ext cx="576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7:2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